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ct" ContentType="image/x-pict"/>
  <Override PartName="/ppt/media/image28.pct" ContentType="image/x-pict"/>
  <Override PartName="/ppt/media/image27.pct" ContentType="image/x-pict"/>
  <Override PartName="/ppt/media/image10.png" ContentType="image/png"/>
  <Override PartName="/ppt/media/image17.pct" ContentType="image/x-pict"/>
  <Override PartName="/ppt/media/image6.png" ContentType="image/png"/>
  <Override PartName="/ppt/media/image7.pct" ContentType="image/x-pict"/>
  <Override PartName="/ppt/media/image11.png" ContentType="image/png"/>
  <Override PartName="/ppt/media/image1.png" ContentType="image/png"/>
  <Override PartName="/ppt/media/image21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32.pct" ContentType="image/x-pict"/>
  <Override PartName="/ppt/media/image5.png" ContentType="image/png"/>
  <Override PartName="/ppt/media/image16.pct" ContentType="image/x-pict"/>
  <Override PartName="/ppt/media/image31.pct" ContentType="image/x-pict"/>
  <Override PartName="/ppt/media/image4.png" ContentType="image/png"/>
  <Override PartName="/ppt/media/image30.pct" ContentType="image/x-pict"/>
  <Override PartName="/ppt/media/image3.png" ContentType="image/png"/>
  <Override PartName="/ppt/media/image2.png" ContentType="image/png"/>
  <Override PartName="/ppt/media/image14.png" ContentType="image/png"/>
  <Override PartName="/ppt/media/image12.pct" ContentType="image/x-pict"/>
  <Override PartName="/ppt/media/image15.png" ContentType="image/png"/>
  <Override PartName="/ppt/media/image18.pct" ContentType="image/x-pict"/>
  <Override PartName="/ppt/media/image20.pct" ContentType="image/x-pict"/>
  <Override PartName="/ppt/media/image23.pct" ContentType="image/x-pict"/>
  <Override PartName="/ppt/media/image24.pct" ContentType="image/x-pict"/>
  <Override PartName="/ppt/media/image25.pct" ContentType="image/x-pict"/>
  <Override PartName="/ppt/media/image2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A3D9-F9DE-4DC6-BC60-483344C8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wrong with this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that T=f(x,y) from the data.  We can begin to understand patterns from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wister.sbs.ohio-state.edu/curr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C = coordinated universal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 = UTC – 5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kt = 5.7 m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t = “Kno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0476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Data Analysis &amp; Grap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summing to 100%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22200"/>
          <a:ext cx="9144000" cy="56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2200"/>
                    <a:ext cx="91440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42840" y="860400"/>
          <a:ext cx="7853400" cy="52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0400"/>
                    <a:ext cx="785340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08080" y="17136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dat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080" y="5979960"/>
            <a:ext cx="786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parison of on base percentages (walks + hits + hit by pitch divided by total at-bats + walks + hit by pitch + sacrifice flies) of Baltimore Orioles hitters during the last eight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5120" y="900000"/>
          <a:ext cx="7561440" cy="50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900000"/>
                    <a:ext cx="75614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12960" y="59515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raveled by a car with constant velocity in time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080" y="17136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for trend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63680" y="898560"/>
          <a:ext cx="7635600" cy="50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898560"/>
                    <a:ext cx="76356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12960" y="59515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raveled by a car with constant velocity in time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 in Lab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you present your data in the college rankings lab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you present your data in the materials lab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aling – telling a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0080" y="1390680"/>
          <a:ext cx="8905680" cy="51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390680"/>
                    <a:ext cx="890568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aling – telling a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080" y="1390680"/>
          <a:ext cx="8905680" cy="51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390680"/>
                    <a:ext cx="890568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8960" y="34920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35240" y="13460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m Gross Income for July 3-6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2000" y="1881360"/>
          <a:ext cx="901836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881360"/>
                    <a:ext cx="901836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54400" y="615456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1081440" y="264672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lars 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7240" y="1638360"/>
          <a:ext cx="8896320" cy="47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8360"/>
                    <a:ext cx="889632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18960" y="34920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1393920"/>
            <a:ext cx="70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st Home Runs Hit in Basebal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2600" y="1754280"/>
          <a:ext cx="886320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754280"/>
                    <a:ext cx="88632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18960" y="34920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393920"/>
            <a:ext cx="70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st Home Runs Hit in Basebal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I gave you a table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993600"/>
            <a:ext cx="6858000" cy="5712120"/>
            <a:chOff x="1371600" y="993600"/>
            <a:chExt cx="6858000" cy="5712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371600" y="993600"/>
              <a:ext cx="6858000" cy="57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486400" y="1676520"/>
              <a:ext cx="1752480" cy="49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ing require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1904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xis la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design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3880" y="1363680"/>
          <a:ext cx="6110280" cy="43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63680"/>
                    <a:ext cx="6110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44720" y="5529240"/>
            <a:ext cx="56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free path data for molecular dynamics simulations of 864 hard spheres at a range of fluid den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440" y="479520"/>
            <a:ext cx="61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mputer program was used to make this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23880" y="1363680"/>
          <a:ext cx="6110280" cy="43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63680"/>
                    <a:ext cx="6110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44720" y="5529240"/>
            <a:ext cx="56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free path data for molecular dynamics simulations of 864 hard spheres at a range of fluid den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440" y="479520"/>
            <a:ext cx="61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mputer program was used to make this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4520" y="1157400"/>
            <a:ext cx="5418000" cy="5162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8160" y="6254640"/>
            <a:ext cx="77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kis, C.P., Donohue, M.D. and Hall, C.K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Phys Ch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1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0840" y="36180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from a scientific journal 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s a table better than a fig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943600" cy="4891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5943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F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gnificant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the density of a 7% mix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258920"/>
          <a:ext cx="883944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58920"/>
                    <a:ext cx="88394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1338120" y="3676680"/>
            <a:ext cx="3433680" cy="1371600"/>
            <a:chOff x="1338120" y="3676680"/>
            <a:chExt cx="3433680" cy="1371600"/>
          </a:xfrm>
        </p:grpSpPr>
        <p:sp>
          <p:nvSpPr>
            <p:cNvPr id="148" name=""/>
            <p:cNvSpPr/>
            <p:nvPr/>
          </p:nvSpPr>
          <p:spPr>
            <a:xfrm flipV="1">
              <a:off x="4771800" y="3676680"/>
              <a:ext cx="0" cy="13716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8120" y="3681360"/>
              <a:ext cx="34272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914400" y="6019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shows that the density is 0.98347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22320" y="1763640"/>
            <a:ext cx="7299360" cy="4103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304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:  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066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ensity of a 5.5% ethyl alcohol solution at 25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19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by linear interpol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6186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Analysis: Linear Interpol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884240"/>
          <a:ext cx="7772400" cy="46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84240"/>
                    <a:ext cx="77724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65120" y="80028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olve, assume a linear relationship betwee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31840" y="114624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temperature 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0680" y="1494000"/>
            <a:ext cx="51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% ethyl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0" y="3103560"/>
            <a:ext cx="0" cy="13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56200" y="3465360"/>
            <a:ext cx="1568160" cy="6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:  Bilinear Interpo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30560" y="2766960"/>
            <a:ext cx="0" cy="2684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400" y="5160960"/>
            <a:ext cx="2987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457400">
            <a:off x="2827440" y="1288800"/>
            <a:ext cx="3186720" cy="34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62320" y="1384200"/>
            <a:ext cx="3762360" cy="3325680"/>
            <a:chOff x="3262320" y="1384200"/>
            <a:chExt cx="3762360" cy="3325680"/>
          </a:xfrm>
        </p:grpSpPr>
        <p:sp>
          <p:nvSpPr>
            <p:cNvPr id="169" name=""/>
            <p:cNvSpPr/>
            <p:nvPr/>
          </p:nvSpPr>
          <p:spPr>
            <a:xfrm>
              <a:off x="4425840" y="1384200"/>
              <a:ext cx="2598840" cy="2525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754440" y="2737800"/>
              <a:ext cx="654120" cy="14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3360" y="3796560"/>
              <a:ext cx="153828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53040" y="2023920"/>
              <a:ext cx="1218960" cy="12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62320" y="4144680"/>
              <a:ext cx="579240" cy="565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232160" y="5305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5560" y="28591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160" y="95724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there is a non-linear relationship between x and 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3720" y="5979960"/>
            <a:ext cx="82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smal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 can still approximate a linear relationship between x and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:  Bilinear Interpo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884240"/>
          <a:ext cx="7772400" cy="46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84240"/>
                    <a:ext cx="77724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65120" y="80028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olve, assume a linear relationship betwee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31840" y="114624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temperatu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20680" y="1494000"/>
            <a:ext cx="51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% ethyl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0" y="3103560"/>
            <a:ext cx="0" cy="13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0880" y="3627360"/>
            <a:ext cx="1568520" cy="6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56200" y="3465360"/>
            <a:ext cx="1568160" cy="6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2240" y="3255840"/>
            <a:ext cx="0" cy="13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84840" y="36957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84880" y="3454560"/>
            <a:ext cx="21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%, T=2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67080" y="3686040"/>
            <a:ext cx="290520" cy="16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long, long table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7242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How does one make sense of all thi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276720"/>
            <a:ext cx="3733920" cy="2819160"/>
            <a:chOff x="914400" y="3276720"/>
            <a:chExt cx="3733920" cy="28191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914400" y="3422520"/>
              <a:ext cx="365760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86200" y="3276720"/>
              <a:ext cx="7621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181480" y="838080"/>
            <a:ext cx="3733920" cy="3200400"/>
            <a:chOff x="5181480" y="838080"/>
            <a:chExt cx="3733920" cy="32004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181480" y="914400"/>
              <a:ext cx="3733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53280" y="838080"/>
              <a:ext cx="76212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ample Exam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4880" y="1943280"/>
            <a:ext cx="862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distillation can produce high-concentration alcohol/water mixtures out of low-concentration mixtures.  If you begin with an alcohol/water mixture of 5%, how many successive stages of distillation would be required to produce an 80% concentration of alcohol? Assume that the efficiency of each stage is 100%.  What is the maximum concentration of alcohol you can obtain from distill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rface tempera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744480"/>
            <a:ext cx="59436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80880" y="3200400"/>
            <a:ext cx="1676520" cy="1864080"/>
            <a:chOff x="380880" y="3200400"/>
            <a:chExt cx="1676520" cy="1864080"/>
          </a:xfrm>
        </p:grpSpPr>
        <p:sp>
          <p:nvSpPr>
            <p:cNvPr id="63" name=""/>
            <p:cNvSpPr/>
            <p:nvPr/>
          </p:nvSpPr>
          <p:spPr>
            <a:xfrm flipV="1">
              <a:off x="533520" y="380952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9120" y="48765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3200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85800" y="4483080"/>
              <a:ext cx="4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609480" y="5537160"/>
          <a:ext cx="259092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537160"/>
                    <a:ext cx="2590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419720" y="54864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apable of revealing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atter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are not obvious in the da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813200" y="3843360"/>
            <a:ext cx="3718080" cy="3016080"/>
            <a:chOff x="4813200" y="3843360"/>
            <a:chExt cx="3718080" cy="3016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4813200" y="3843360"/>
              <a:ext cx="365616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311960" y="6491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:00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2560" y="3824280"/>
            <a:ext cx="3703680" cy="3035160"/>
            <a:chOff x="682560" y="3824280"/>
            <a:chExt cx="3703680" cy="303516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682560" y="3824280"/>
              <a:ext cx="36561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348000" y="649116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9960" y="720720"/>
            <a:ext cx="3746520" cy="2924280"/>
            <a:chOff x="4809960" y="720720"/>
            <a:chExt cx="3746520" cy="292428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4809960" y="720720"/>
              <a:ext cx="365580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37160" y="3264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:00 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93720" y="719280"/>
            <a:ext cx="3795840" cy="2987640"/>
            <a:chOff x="693720" y="719280"/>
            <a:chExt cx="3795840" cy="2987640"/>
          </a:xfrm>
        </p:grpSpPr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693720" y="719280"/>
              <a:ext cx="36561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70240" y="33386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:00 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’s evident that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ures 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-tell th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al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00400" y="1523880"/>
          <a:ext cx="2936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2936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ind velocity…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hat’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issing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993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elocity is a </a:t>
            </a: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vec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71720" y="990720"/>
            <a:ext cx="71578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ny types of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843120"/>
            <a:ext cx="7162920" cy="58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6:03:25Z</dcterms:created>
  <dc:creator>Daniel Matuszak</dc:creator>
  <dc:description/>
  <dc:language>en-US</dc:language>
  <cp:lastModifiedBy>Office 2004 Test Drive User</cp:lastModifiedBy>
  <dcterms:modified xsi:type="dcterms:W3CDTF">2009-07-10T03:45:29Z</dcterms:modified>
  <cp:revision>39</cp:revision>
  <dc:subject/>
  <dc:title>Data Analysis &amp; Graphing</dc:title>
</cp:coreProperties>
</file>